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30C-544C-46AA-B0E0-A9E1C10D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EB3-BF16-48D3-A44D-28A65F8D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68D-75A0-40F8-B35F-04251ED5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350-572E-48DE-B1C9-40A44B44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2F3-3D5A-4614-85CC-F42CC9AB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06A-32A7-4588-89A8-D12FAE58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7EE-6514-4585-82B5-EECFECCE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990-D45B-4B69-937C-8FE3ECEB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82C-9FD7-44E9-BE41-ED57482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38D-F01D-445A-B53E-1D6819E1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B8A-F95E-4534-A842-AD4FD42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3D7-5A90-4DCC-AD9C-875FCFB6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C0DC-21B7-4113-855A-85521C720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izing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mmunity oper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d not h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fficient revenue to produ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viata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s perennial favo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board me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                  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to raise money for the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ag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are surprised to learn that the id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flying machine stretches all the way back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ient Greece. Archimedes, who identifie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 of buoyancy more than 2,000 years a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 )may also have conceived of a flying machine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inciple.  Throughout the years, other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hilosophers, Roger Bacon and Alber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us among them, advanced designs for f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s based on buoyancy. It wasn’t until 178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) however, that the principle was tested. In the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r of that year Joseph and Ettie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golfier built a hot air balloon propelled b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re-and-straw fire that safely held aloft a t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arm animals for eight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ssage implies that the principle of buoy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rchimedes’ main contribution to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vented by the Montgolfier br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for the functioning of hot air ball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unded both Roger Bacon and Albertus Mag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first fully understood in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ne 8, the word “advanced” most nearly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mp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43434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419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 of the 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quent types of injury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ll play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stain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dis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oulder, an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ccu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arly 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                        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trained hamstring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i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ifferences, the novelist’s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er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ing sty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 port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                        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political situation in comple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 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ason the Raiders football games are mostly losse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 those that do fe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derable athletic perform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ose that do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do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at does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fea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that does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the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ied relentless for pa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est necessary to earn an A in the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relentless for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relentless to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to pass relentles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relentlessly for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relentlessly to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olinist was overly excited at the beginning of the concert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ving shown admirable calm once the violin sonata 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shown admirable calm once the violin sonat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e showed admirable calm once the violin sonat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howing admirable calm once the violin sonat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he showed admirable calm when the violin sonat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he showed admirable calm when the violin sonata had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rease in available space has made it possible for our library to be entertain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 well as edu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ing educationa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educ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ducat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there was much curiosity about their personal lives, the celebrities of earlier times were able to maintain a degree of - - - that today’s celebrities - - -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..en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nity..reg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..mi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..m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..celebrat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n the most informal settings, Mrs. Davis always had the instinct to - - - and could not resist the urge to spread knowledge among her acquain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30:52Z</dcterms:created>
  <dc:creator>ASD</dc:creator>
  <dc:description/>
  <dc:language>en-US</dc:language>
  <cp:lastModifiedBy>ASD</cp:lastModifiedBy>
  <dcterms:modified xsi:type="dcterms:W3CDTF">2010-09-14T14:45:21Z</dcterms:modified>
  <cp:revision>3</cp:revision>
  <dc:subject/>
  <dc:title>Question #1</dc:title>
</cp:coreProperties>
</file>